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409-855A-47F0-BB55-03ADD271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63E-7C67-4636-BE01-B5CFD38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08E-372E-40C7-8CA7-124CE4C9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F1F-AC42-43EC-AF9C-31C5638F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AB38-6CF2-4059-9705-02E91A2A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8123-B6A8-4B56-B0F8-5B5724E6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59C-2A02-4DCD-A87D-476CA44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4D42-3A12-4512-AACA-EFF47BCE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1290-54FA-4914-8901-4E25284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195C-8297-4A46-B88A-C675AF94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C78-A617-4B17-B877-D98282A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876-0B4C-4DB4-B077-1530CAC1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3AE-415E-44DB-BE1C-B645923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B58-8E04-48CE-984B-206937B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EFAB-A0E9-48A0-A08D-76A9E10B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A4FB-60F8-40B0-95BE-38161F55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1ED-7820-4324-AC5B-F8A78CDD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281-1011-4873-8DE2-A9CE7E90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BB8-88F9-4698-9584-05B2523C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900-080A-4179-B91D-7CA24B21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760-0311-4FCF-A35A-A87704C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92B-292D-4A3A-A3F4-B487368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B7F-DB51-4AEE-8DD4-B399D07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870-AEBC-47F6-8D18-72ABCC8E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15B-2B44-48B7-BA6C-9BF92B154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8544-2AA5-4581-8206-80427D6E7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66"/>
                </a:solidFill>
                <a:latin typeface="Tahoma"/>
              </a:rPr>
              <a:t>Chapter 23</a:t>
            </a:r>
            <a:br>
              <a:rPr sz="4100"/>
            </a:br>
            <a:r>
              <a:rPr b="0" lang="en-US" sz="4100" spc="-1" strike="noStrike">
                <a:solidFill>
                  <a:srgbClr val="336666"/>
                </a:solidFill>
                <a:latin typeface="Tahoma"/>
              </a:rPr>
              <a:t>FROM ROOSEVELT TO WILSON IN THE AGE OF PROGRESSIVISM</a:t>
            </a:r>
            <a:endParaRPr b="0" lang="en-US" sz="41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3880" y="365760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America Past and Pres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ighth Edi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vine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Breen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Fredrickson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Williams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Gross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Br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 Ferment of Ideas: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hallenging the Status Quo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s, pragmatists, measure value of ideas by actions they inspi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ject social Darwin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ohn Dewey: Education should stress personal growth, free inquiry, creativ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udge Lindsey, Louis Brandies and “Sociological Jurisprudence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 Ferment of Ideas: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hallenging the Status Quo (2)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1: Socialist party formed uniting  intellectuals, factory workers, tenant farmers, miners, lumberjac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y 1911, 32 cities have Socialist may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mises Progressive reform rather than overthrow of capital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2: Socialist presidential candidate Eugene Debs polls over 900,000 vo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form in the Cities and Stat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s wanted government to follow the public wi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organize for efficiency,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agencies address particular social 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s staffed with expe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vernment power extended at all lev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Interest Groups and the Decline of Popular Politic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cline in voter particip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7% from 1876–19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5% from 1900–19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2% in the 1920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ained near 52% through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est groups got favorable legislation through lobby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Voter Participation in Presidential Elections, 1876–1920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40" name="Picture 6" descr="DIVI482"/>
          <p:cNvPicPr/>
          <p:nvPr/>
        </p:nvPicPr>
        <p:blipFill>
          <a:blip r:embed="rId1"/>
          <a:stretch/>
        </p:blipFill>
        <p:spPr>
          <a:xfrm>
            <a:off x="2666880" y="1828800"/>
            <a:ext cx="372456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form in the Citi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5960" y="1981080"/>
            <a:ext cx="7410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rban reform leagues formed professional, nonpolitical civil ser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ointed commissioners replaced elected officials in many c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y manager idea spre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 mayor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m Johnson of Cleve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Golden Rule" Jones of Tole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ction in the Stat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5960" y="198108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gulatory commissions created to investigate business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ve, referendum, and recall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3 states used primary elections by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3: Seventeenth Amendment provided for direct election of U.S. se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ction in the States: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form Governors 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bert La Follette of Wiscons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sconsin Idea” tapped experts in higher education for help in sweeping re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Progressive govern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seph Folk of 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ram Johnson of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les Evans Hughes of New Y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odrow Wilson of New Jers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Republican Roosevel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ten defied conven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ought an exuberance to the presidenc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rrounded himself with able associ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Spirit of Progressiv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essivism not a coherent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red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 about effects of industr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mistic about human nature and potential for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ing to intervene in others lives, either private charity or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e of evangelical Protestant duty and faith in the benefits of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improve all aspects of American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Busting the Trus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2: Wave of trust-busting led by suit against Northern Securities Compan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4: Northern Securities dissolv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reputed a "trust-buster"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ly few antitrust cases under Roosevelt, Taft did almost twice as many in half the ti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414680" cy="556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841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"Square Deal" in the Coalfield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2: United Mine Workers strike in Pennsylvania threatened U.S. econom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.M.W., companies to White H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won company concessions by threatening military seizure of min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acted as broker of interes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676520" y="299880"/>
            <a:ext cx="5638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oosevelt Progressivism at Its Heigh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4—A four-way e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ublican—Theodore Rooseve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t—Alton B. Pa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ist—Eugene V. De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hibition—Silas C. Swal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won 57% of popular vote, 336 electoral vo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Election of 1904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77" name="Picture 4" descr="DIVI7233TB2301"/>
          <p:cNvPicPr/>
          <p:nvPr/>
        </p:nvPicPr>
        <p:blipFill>
          <a:blip r:embed="rId1"/>
          <a:srcRect l="0" t="15868" r="0" b="2510"/>
          <a:stretch/>
        </p:blipFill>
        <p:spPr>
          <a:xfrm>
            <a:off x="762120" y="2438280"/>
            <a:ext cx="769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gulating the Railroad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3: Elkins Act prohibited railroad rebates, strengthened Interstate Commerc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popular demand for further railroad regulation after Roosevelt’s re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6: Hepburn Act further strengthened Interstate Commerce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from five to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fix reasonable maximum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isdiction broadened to include oil pipeline, express, sleeping ca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leaning Up Food and Drug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on Sinclair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Ju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06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ed federal investigation of meatpac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6: Meat Inspec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rules for sanitary meat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overnment inspection of mea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Hopkins Adams exposed dangers of patent medi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6: Pure Food and Drug A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manufacturers to list certain ingred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manufacture and sale of adulterated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onserving the Land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comprehensive national conservation polic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osevelt worked with Gifford Pinchot, chief of Forest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cy defined “conservation” as wise use of natur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drupled acreage under federal prot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ational Parks and Fores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85" name="Picture 4" descr="DIVI7233498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Rise of the Profession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ions bulwarks of Progressiv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ionalism strengthened through entrance exams, national associ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onserving the Land (2)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’s challen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ked “malefactors of great weal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ticized conservatism of federal cou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tated for pro-labor legis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pular respon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leaders blamed for financial pa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whelming majority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Ordeal of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illiam Howard Taf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: Abled administrator, poor presi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ervative Republicans resurg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 lost support of Progressi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Election of 1908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93" name="Picture 4" descr="DIVI7233TB2302"/>
          <p:cNvPicPr/>
          <p:nvPr/>
        </p:nvPicPr>
        <p:blipFill>
          <a:blip r:embed="rId1"/>
          <a:srcRect l="0" t="16130" r="0" b="0"/>
          <a:stretch/>
        </p:blipFill>
        <p:spPr>
          <a:xfrm>
            <a:off x="762120" y="2438280"/>
            <a:ext cx="76960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Party Insurgency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riff split Republica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essives:  high tariff favored tru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ervatives:  high tariff protected 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9 Payne-Aldrich Act provoked Progressives to break with Taf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Ballinger-Pinchot Affair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fford Pinchot leading conservationist, Roosevelt appoint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nchot accused Interior Secretary Richard Ballinger of selling public lands to frien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 fired Pincho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s antagoniz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aft Alienates the Progressiv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0: Taft successfully pushed Mann-Elkins Act to strengthen I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s ICC to fix railroad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Republicans attacked Taft’s plan of a Commerce Court to hear ICC app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s obstructed Taft’s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0: Taft attacked Progressive Republicans, Democrats gained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aft Alienates the Progressives 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gislation protecting labor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eenth Amendment created income ta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 a greater trustbuster than Roosevel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, Roosevelt attackd one another public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2: Taft renominated by Republicans, little chance for vic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7165800" y="92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Differing Philosophies in the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Election of 1912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: Progressive ("Bull Moose"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ationalis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regulation of econo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teful competition replaced by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odrow Wilson: Democr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New Freedom" for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ain big business, gover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mocrats won White House, Congr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DIVI7233502"/>
          <p:cNvPicPr/>
          <p:nvPr/>
        </p:nvPicPr>
        <p:blipFill>
          <a:blip r:embed="rId1"/>
          <a:stretch/>
        </p:blipFill>
        <p:spPr>
          <a:xfrm>
            <a:off x="2209680" y="457200"/>
            <a:ext cx="482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odrow Wilson's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Freedo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odrow Wilson: Former president of Princeton, governor of New Jers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, intellectual, inspiring ora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of America's most effective presid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Social-Justice Movemen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ers forsook individualized reform to address larger structural probl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ed scientific methods to social re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ial work became a prof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4864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New Freedom in Action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3: Underwood Tariff cut duti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3: Federal Reserve Act reformed banks, established stable currenc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4: Clayton Antitrust Act outlawed unfair trade practices, protected un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4: Federal Trade Commiss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Freedom in Action: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treating from Refor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vember, 1914: Wilson announces "New Freedom" has been achiev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was “a time of healing because a time of just dealing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tement stunned many progressiv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ilson Moves Toward the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National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sons for the mov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acted by the outbreak of war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ed conservative Southern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ublicans seemed to gain by attacking hi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6: Presidential e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ilson Moves Toward the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National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lson renewed reform in reelection bi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Farm Loan 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ened in strikes on behalf of 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ed to ban child la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income taxes on the r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ed women’s suff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 won Wilson a close elec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Fruits of the Progressiv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 of government at all level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lligent planning of re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ld War I ends Progressive optim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Purity Crusade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usade against 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1: Membership in Women's Christian Temperance Union hit 250,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6: 19 states prohibit alcoh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20: Eighteenth Amendment prohibits alcoh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rohibition%20raid"/>
          <p:cNvPicPr/>
          <p:nvPr/>
        </p:nvPicPr>
        <p:blipFill>
          <a:blip r:embed="rId1"/>
          <a:stretch/>
        </p:blipFill>
        <p:spPr>
          <a:xfrm>
            <a:off x="1143000" y="447840"/>
            <a:ext cx="6858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an Suffrage,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an's Righ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men filled Progressive ran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Conference of Social 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Federation of Women's Clu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890: National American Woman Suffrage Association form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20: Nineteenth Amendment pas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ffrage seen as empowering women to benefit the disadvantag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an Suffrage, Woman's Righ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litically active women push reforms of social justice mov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ximum number of working hours for women in 39 states by 191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ating-Owen Act 1916 limited child labor, but was declared unconstitutional i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Hammer v. Dagenhar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en’s Suffrage Before 1900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17" name="Picture 4" descr="DIVI7233490"/>
          <p:cNvPicPr/>
          <p:nvPr/>
        </p:nvPicPr>
        <p:blipFill>
          <a:blip r:embed="rId1"/>
          <a:stretch/>
        </p:blipFill>
        <p:spPr>
          <a:xfrm>
            <a:off x="2319480" y="1905120"/>
            <a:ext cx="4354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5:42:53Z</dcterms:created>
  <dc:creator>HstM3</dc:creator>
  <dc:description/>
  <cp:keywords/>
  <dc:language>en-US</dc:language>
  <cp:lastModifiedBy>Matthew Myers</cp:lastModifiedBy>
  <cp:lastPrinted>2008-10-28T12:28:58Z</cp:lastPrinted>
  <dcterms:modified xsi:type="dcterms:W3CDTF">2011-01-25T16:13:57Z</dcterms:modified>
  <cp:revision>11</cp:revision>
  <dc:subject/>
  <dc:title>FROM ROOSEVELT TO WILSON IN THE AGE OF PROGRESSIVISM</dc:title>
</cp:coreProperties>
</file>